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49A9-EECE-4B93-89CB-4E31B238D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0D62-A305-4C78-B80E-79E736BD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8206-4905-4E20-9B0F-1DA917C5B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70C4-8838-4D50-87A7-97F97113E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933C-C13E-4DB2-ADBD-C824AC69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16E5-81D5-4B39-B8A9-EC9D4D97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A818-E123-450A-876B-3C16BCA7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38AA-E8EB-4281-867E-08A07368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1063-AA36-4B10-B83A-48AF50CC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F620-4BFF-4D7C-9598-76661F81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D761-F9AF-4319-9301-245739C3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2CA6-2666-4F99-91B9-C2352A60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1F3D-8EA4-4B6C-BDFB-6AA46EC5D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-766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____  Clase 702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2 de octubre del 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8991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7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A qué hora vas a la escue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b050"/>
                </a:solidFill>
                <a:latin typeface="Arial"/>
              </a:rPr>
              <a:t>L.O: to recall last years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70c0"/>
                </a:solidFill>
                <a:latin typeface="Arial"/>
              </a:rPr>
              <a:t>A.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cribe la palabra correc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70c0"/>
                </a:solidFill>
                <a:latin typeface="Arial"/>
              </a:rPr>
              <a:t>B.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juga los verb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 Saca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2. Escuchar   3. Toma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4. Pa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152280" y="3144960"/>
            <a:ext cx="3200400" cy="22651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>
            <a:off x="1981080" y="3352680"/>
            <a:ext cx="685800" cy="27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sc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"/>
          <p:cNvPicPr/>
          <p:nvPr/>
        </p:nvPicPr>
        <p:blipFill>
          <a:blip r:embed="rId2"/>
          <a:stretch/>
        </p:blipFill>
        <p:spPr>
          <a:xfrm>
            <a:off x="3581280" y="3809880"/>
            <a:ext cx="1219320" cy="1524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"/>
          <p:cNvPicPr/>
          <p:nvPr/>
        </p:nvPicPr>
        <p:blipFill>
          <a:blip r:embed="rId3"/>
          <a:stretch/>
        </p:blipFill>
        <p:spPr>
          <a:xfrm>
            <a:off x="5105520" y="4038480"/>
            <a:ext cx="1590480" cy="1314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"/>
          <p:cNvPicPr/>
          <p:nvPr/>
        </p:nvPicPr>
        <p:blipFill>
          <a:blip r:embed="rId4"/>
          <a:stretch/>
        </p:blipFill>
        <p:spPr>
          <a:xfrm>
            <a:off x="6934320" y="3429000"/>
            <a:ext cx="190476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s vocabul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32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es escol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1301760" cy="1676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3276720" y="1523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3"/>
          <a:stretch/>
        </p:blipFill>
        <p:spPr>
          <a:xfrm>
            <a:off x="5181480" y="16765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tretch/>
        </p:blipFill>
        <p:spPr>
          <a:xfrm>
            <a:off x="7364520" y="1447920"/>
            <a:ext cx="1093680" cy="1600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5"/>
          <a:stretch/>
        </p:blipFill>
        <p:spPr>
          <a:xfrm>
            <a:off x="1676520" y="1752480"/>
            <a:ext cx="1685880" cy="15447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9"/>
          <p:cNvSpPr/>
          <p:nvPr/>
        </p:nvSpPr>
        <p:spPr>
          <a:xfrm>
            <a:off x="76320" y="3505320"/>
            <a:ext cx="167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uadern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1828800" y="3230640"/>
            <a:ext cx="1371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lápiz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3886200" y="2819520"/>
            <a:ext cx="1371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plum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3429000" y="3352680"/>
            <a:ext cx="167652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bolígraf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5562720" y="3200400"/>
            <a:ext cx="11430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libr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7086600" y="3124080"/>
            <a:ext cx="17524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mochil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5" descr=""/>
          <p:cNvPicPr/>
          <p:nvPr/>
        </p:nvPicPr>
        <p:blipFill>
          <a:blip r:embed="rId6"/>
          <a:stretch/>
        </p:blipFill>
        <p:spPr>
          <a:xfrm>
            <a:off x="76320" y="4038480"/>
            <a:ext cx="1828800" cy="1789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"/>
          <p:cNvPicPr/>
          <p:nvPr/>
        </p:nvPicPr>
        <p:blipFill>
          <a:blip r:embed="rId7"/>
          <a:stretch/>
        </p:blipFill>
        <p:spPr>
          <a:xfrm>
            <a:off x="189540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7"/>
          <p:cNvSpPr/>
          <p:nvPr/>
        </p:nvSpPr>
        <p:spPr>
          <a:xfrm>
            <a:off x="152280" y="597384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arpe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8" descr=""/>
          <p:cNvPicPr/>
          <p:nvPr/>
        </p:nvPicPr>
        <p:blipFill>
          <a:blip r:embed="rId8"/>
          <a:stretch/>
        </p:blipFill>
        <p:spPr>
          <a:xfrm>
            <a:off x="4648320" y="4203720"/>
            <a:ext cx="1600200" cy="1206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" descr=""/>
          <p:cNvPicPr/>
          <p:nvPr/>
        </p:nvPicPr>
        <p:blipFill>
          <a:blip r:embed="rId9"/>
          <a:stretch/>
        </p:blipFill>
        <p:spPr>
          <a:xfrm>
            <a:off x="7105680" y="3809880"/>
            <a:ext cx="1504800" cy="20098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0"/>
          <p:cNvSpPr/>
          <p:nvPr/>
        </p:nvSpPr>
        <p:spPr>
          <a:xfrm>
            <a:off x="4572000" y="566892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Borrador / Go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7086600" y="589752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Pap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os verbos “YO”: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R, DAR y EST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erb 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Ir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to go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one of the most irregular verbs in the Spanish language.  It is a verb you must memor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erbs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Dar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to giv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Est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to b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[feeling, location]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onjugated in the same way as regular –AR verbs in all forms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CEP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 ella 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s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os Ellas U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352680" y="37339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Verdana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429000" y="41292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Verdana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505320" y="45720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Verdana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200400" y="5043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Verdana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3352680" y="54864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Verdana"/>
              </a:rPr>
              <a:t>v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3429000" y="58816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Verdana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5257800" y="5500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Verdana"/>
              </a:rPr>
              <a:t>d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5334120" y="41292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Verdana"/>
              </a:rPr>
              <a:t>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5410080" y="45864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Verdana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5029200" y="5043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Verdana"/>
              </a:rPr>
              <a:t>d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5257800" y="37339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Verdana"/>
              </a:rPr>
              <a:t>d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5257800" y="58816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Verdana"/>
              </a:rPr>
              <a:t>d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6934320" y="36720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Verdana"/>
              </a:rPr>
              <a:t>est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7010280" y="41148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Verdana"/>
              </a:rPr>
              <a:t>e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7086600" y="45720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Verdana"/>
              </a:rPr>
              <a:t>e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0"/>
          <p:cNvSpPr/>
          <p:nvPr/>
        </p:nvSpPr>
        <p:spPr>
          <a:xfrm>
            <a:off x="6705720" y="5029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Verdana"/>
              </a:rPr>
              <a:t>est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1"/>
          <p:cNvSpPr/>
          <p:nvPr/>
        </p:nvSpPr>
        <p:spPr>
          <a:xfrm>
            <a:off x="6858000" y="55008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Verdana"/>
              </a:rPr>
              <a:t>est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2"/>
          <p:cNvSpPr/>
          <p:nvPr/>
        </p:nvSpPr>
        <p:spPr>
          <a:xfrm>
            <a:off x="6934320" y="58672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Verdana"/>
              </a:rPr>
              <a:t>e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3"/>
          <p:cNvSpPr/>
          <p:nvPr/>
        </p:nvSpPr>
        <p:spPr>
          <a:xfrm>
            <a:off x="5257800" y="329076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Verdana"/>
              </a:rPr>
              <a:t>Dar        </a:t>
            </a:r>
            <a:r>
              <a:rPr b="1" lang="es-ES_tradnl" sz="2800" spc="-1" strike="noStrike">
                <a:solidFill>
                  <a:srgbClr val="660066"/>
                </a:solidFill>
                <a:latin typeface="Verdana"/>
              </a:rPr>
              <a:t>Estar</a:t>
            </a:r>
            <a:r>
              <a:rPr b="1" lang="es-ES_tradnl" sz="2800" spc="-1" strike="noStrike">
                <a:solidFill>
                  <a:srgbClr val="ff33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"/>
              </a:rPr>
              <a:t>La preposición “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  The preposition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“A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ans “to, toward”. This preposition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“A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ten follows the verb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“i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   When the preposition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“A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followed by the definite article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“el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two words “contract” to form one word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“a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l”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….    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e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ll other definite articles they stay as two separate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oy a el parque.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oy a la ti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oy a las cl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oy a los parq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"/>
          <p:cNvSpPr/>
          <p:nvPr/>
        </p:nvSpPr>
        <p:spPr>
          <a:xfrm>
            <a:off x="1066680" y="3809880"/>
            <a:ext cx="6858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"/>
          <p:cNvSpPr/>
          <p:nvPr/>
        </p:nvSpPr>
        <p:spPr>
          <a:xfrm>
            <a:off x="1143000" y="3886200"/>
            <a:ext cx="53352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"/>
          <p:cNvSpPr/>
          <p:nvPr/>
        </p:nvSpPr>
        <p:spPr>
          <a:xfrm flipH="1">
            <a:off x="1143000" y="3886200"/>
            <a:ext cx="53352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4116600" y="3809880"/>
            <a:ext cx="21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y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28600" y="12654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LOS VERBOS IR, DAR, E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7:08:02Z</dcterms:created>
  <dc:creator>Helen Zumaeta</dc:creator>
  <dc:description/>
  <dc:language>en-US</dc:language>
  <cp:lastModifiedBy>Helen Zumaeta</cp:lastModifiedBy>
  <dcterms:modified xsi:type="dcterms:W3CDTF">2015-10-02T19:39:31Z</dcterms:modified>
  <cp:revision>14</cp:revision>
  <dc:subject/>
  <dc:title>Me llamo _______ Clase 6nh/im La fecha es el 24 de enero del 2011</dc:title>
</cp:coreProperties>
</file>